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828-658D-4643-84F9-48B7073B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FB7-3445-4E3E-8E4D-97EDDA4E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2B3-C815-4389-BB38-ED3B19C6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E47-7992-4579-B49A-C146E730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7D5-5342-48E4-A872-B0D770D6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FE4-778C-457F-A5CD-716EB6EB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D05-061A-4E2F-9B99-7143FFDA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582-90DC-458B-9974-9FA6E919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AD8-7760-43FB-9E35-54774F03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6E3-7BE7-4F72-B8C0-947F18B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391-0FEB-4F2D-8EE7-1C3888A9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525-92BD-4FEF-AF56-D0379EDE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AD636B-E4D5-464E-8A05-8F8A49F2FDAA}" type="slidenum"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6963480" y="601956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www.gratisfree.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10680" cy="686448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-304920"/>
            <a:ext cx="5016600" cy="762012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7952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06520" y="0"/>
            <a:ext cx="45309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1920" y="0"/>
            <a:ext cx="48783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227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37000" y="0"/>
            <a:ext cx="3870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5:20:46Z</dcterms:created>
  <dc:creator>Pinheiro Neto - Advogados</dc:creator>
  <dc:description/>
  <dc:language>en-US</dc:language>
  <cp:lastModifiedBy>pizza party</cp:lastModifiedBy>
  <dcterms:modified xsi:type="dcterms:W3CDTF">2007-05-16T10:57:18Z</dcterms:modified>
  <cp:revision>9</cp:revision>
  <dc:subject/>
  <dc:title>Slide sem título </dc:title>
</cp:coreProperties>
</file>